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1DE-B243-4C66-A183-066B2564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E5E1-5B43-4CAB-9D97-BA02C146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1050-A6F0-46DB-8A36-A545CDA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4303-70B7-488F-8215-DD620301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1DD-D020-474D-9166-9D3660D0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31C-6907-4956-B5AD-4BF5820D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7808-67ED-45F1-806E-221F9216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704-FC48-4993-8161-3E7CCCF2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364F-A878-4235-8ABB-3B92E47B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0252-C992-4A3C-8413-583BAC8E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B136-C6D8-47DB-88A1-6A90749E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3A27-79AA-4642-9B6E-D84B69BA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2C71-3585-427B-8835-118403DAB1B8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9F08-02A6-4999-B8D9-5157EA242F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bandwidth always equal to twice the highest frequency of modulating signal, regardless of its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how power is distributed among carrier and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ends on identifying number of significant sideband pai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is table of percentages expressed in decimal 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3-1: FM Side Frequencies from Bessel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688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Table 3-1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  FM Side Frequencies from Bessel Function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5" descr="tab03_01.jpg"/>
          <p:cNvPicPr/>
          <p:nvPr/>
        </p:nvPicPr>
        <p:blipFill>
          <a:blip r:embed="rId1"/>
          <a:stretch/>
        </p:blipFill>
        <p:spPr>
          <a:xfrm>
            <a:off x="236520" y="152280"/>
            <a:ext cx="8686800" cy="612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occupied bandwidth of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equency difference between highest-order significant side frequencies on either side of carri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band or side frequency significant if its amplitude is 1% (0.01) or more of unmodulated carrier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er modulation indices produce wider-bandwidth signa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Spectrum Analysis/Power Distrib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shows carrier and side-frequency levels in terms of normalized amplitud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ressing levels in decibel terms useful from practical standpoint; it matches measurement scale of spectrum analyz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Spectrum Analysis/Power Distribu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table used to determine power distribution in carrier and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son’s Rule Approxi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s bandwidth necessary for FM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ero-Carrier Amplitu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ero-carrier conditions (carrier nulls) suggest a convenient means of determining deviation produced in FM modulato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band and Narrowband 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ideband FM transmiss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more bandwidth than e occupied by AM transmissions with same maximum intelligence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ized mobile radio (SM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-way voice communication rather than entertain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deband and Narrowband 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band FM (NBFM)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ccupied bandwidths no greater than those of equivalent AM transmiss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ple FM Generat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impinging sound waves determines rate of frequency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impinging sound waves determines amount of frequency change, or deviation from frequency produced by oscillator in absence of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percent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index at 100% varies inversely with intelligence frequency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asts with 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ll or 100% modulation means modulation index of 1 regardless of intelligence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percentage of modulation describes maximum deviation permitted by law or reg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centage of Modulation and Deviation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ratio (D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ximum frequency deviation divided by maximum input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on term in television and FM broadcas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nient characterization of FM systems as wideband or narrowb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as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ng signal causes instantaneous carrier phase, rather than its frequency, to shift from its reference (unmodulated)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 phase angle in radians either advanced or delayed from its reference value by amount proportional to modulating signal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Phas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685800" indent="-342720">
              <a:spcBef>
                <a:spcPts val="649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hasor speeds up or slows down in response to modulating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of modulating signal does not affect deviation in FM; in PM, it do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modulating signal has effect on rate of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te of change describes calculus deriva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 Noise Analy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advantage of FM over 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M has superior noise characteristic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 of noise to received signal causes change in its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has inherent noise reduction capability not possible with A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pture Eff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herent ability of FM to minimize effect of undesired signals applies to reception of undesired station operating at same or nearly same frequency as desired s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uses receiver to lock on stronger signal by suppressing weaker but can fluctuate back and forth when two are nearly eq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M transmissions provide artificial boost to electrical amplitude of higher frequenci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ing relative strength of high-frequency components of audio signal before it is fed to modulat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Suppress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emphas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remains the same; desired signal strength increas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emphasis network normally inserted between detector and audio amplifier in receiv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cept of Devi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constant defines how much carrier frequency will deviate for input voltage leve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iation constant dependent on system desig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ing deviation on either side of carrier is essential for determining occupied bandwidth of modulat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Domain Repres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 of carrier never chan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causes carrier to shift (deviate) both above and below its rest or center frequency that preserves both amplitude and frequency characteristics of the intellige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 Major Concep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dev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ount by which oscillator frequency increases and decreases from f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 FM transmi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signal applied directly to frequency-determining element of carrier oscillat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requency Modulation in the Time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wo Major Concep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rect FM causes instantaneous phase angle of carrier to be varied in response to modulating signal and is example of phase modul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ing 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ing where the power resides in modulated sign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ing 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step in determining occupied bandwidth of modulated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modulating signal frequency and amplitude affect ind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aneous modulating signal amplitude (not frequency) affect modulation ind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FM in the Frequency Domai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 Determin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ssel fun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level mathematical tool for solving frequency components of frequency-modulated sign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FM signal will often occupy a wider bandwidth than its equivalent AM counterp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Thomas Dunn</cp:lastModifiedBy>
  <dcterms:modified xsi:type="dcterms:W3CDTF">2013-05-14T05:10:06Z</dcterms:modified>
  <cp:revision>6</cp:revision>
  <dc:subject/>
  <dc:title>Slide 1</dc:title>
</cp:coreProperties>
</file>